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F83-2EBE-4AF4-8340-9604855F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C03-C3F3-473E-BD53-76B7B933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558-243E-4308-BB87-805718C4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B1F-5EB3-49E5-AEC0-D115C38C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3D1-F1C0-4D67-8C61-2FB6A2C7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7556-2F54-41C9-B182-06F691D6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C39D-2C39-4103-A435-BA916CB8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2383-4BC3-46A2-9716-CDBF895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20FD-59D1-4F55-A81C-9BC9659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A31-9BF5-4AFB-BFD0-98234D2A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23B-1E9B-4FF3-BEEA-3BC12502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1E5-7FAD-4D01-9A4C-F78F836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F58-3158-4157-A2D7-F5F3288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6723-4F15-4181-8DD7-CF3C3DC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4A9F-CD48-41F7-9C44-E1D7A06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F96-6301-4FBC-976B-65E344BF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A483-6581-4093-A6B0-6E194859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348-3C06-4ABD-BCB8-2C35E96F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235-F8BA-4C7E-884A-9938027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1A4-A6F6-40DD-B2B5-3822F09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01C-DED4-402D-A1A5-455AAA78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BB1-BFBE-4E60-82C4-2D4B451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4CD-4663-4F7D-BDC3-D37A813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180-2E07-4A02-8853-B5CC2D3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48B8-FA8A-420A-ADBF-71829C40F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611-044D-415B-B4E1-59273BF36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7200" y="17524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0520" y="1752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240" y="1447920"/>
            <a:ext cx="15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13360" y="1752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 It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6120" y="3168720"/>
            <a:ext cx="36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Annex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11240" y="316872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akeover of 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08720" y="3168720"/>
            <a:ext cx="44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id WWI occu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1880" y="31687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14 - 19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86040" y="316872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event triggered the START of WW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10160" y="3168720"/>
            <a:ext cx="64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ssassination of the Archdu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Serbi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26720" y="3168720"/>
            <a:ext cx="70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a part of the triple alli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743840" y="2666880"/>
            <a:ext cx="65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, Austria – Hungary, 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912320" y="316872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part of the Triple Ent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19160" y="3168720"/>
            <a:ext cx="54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 Britain, France, Russ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3240" y="31687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Alli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2320" y="316872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WWI finally 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W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919160" y="316872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 was forced to sig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aty, which ended the w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917000" y="316872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vent caused the US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ly get involved in WWI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11960" y="3168720"/>
            <a:ext cx="70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S was bombed at Pearl Harb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6280" y="3168720"/>
            <a:ext cx="53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Jews were ki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the Holocau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00800" y="3168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mill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0880" y="3168720"/>
            <a:ext cx="662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 broke their alli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which country during WWI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4320" y="3168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24560" y="3168720"/>
            <a:ext cx="65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Battle of Stalingra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22760" y="3168720"/>
            <a:ext cx="60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st defeat of the Ger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y during WWII.  It chan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urse of the w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59760" y="31687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ountry who is on the same si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a w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47240" y="3168720"/>
            <a:ext cx="60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was the final surrender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WII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urop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s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921320" y="3168720"/>
            <a:ext cx="491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rope – May 7, 194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ia – September 2, 194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18800" y="3168720"/>
            <a:ext cx="57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religious groups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ghting in Northern Irel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14840" y="3168720"/>
            <a:ext cx="47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holics and Protest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23480" y="3168720"/>
            <a:ext cx="64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countries were invol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ld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18080" y="316872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ssia and the Unite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00080" y="3168720"/>
            <a:ext cx="64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ld War was considered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s race.  What does this me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447920" y="213372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a cold war be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was no figh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were racing to 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could make the most weap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24200" y="3168720"/>
            <a:ext cx="66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used the worl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_______ during WWII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country were these used 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12320" y="3168720"/>
            <a:ext cx="296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omic Bom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7640" y="31687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Holoca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69840" y="3168720"/>
            <a:ext cx="46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ld War and the Vietnam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ought over what pol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onflict in Eur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04400" y="31687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sm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89280" y="3168720"/>
            <a:ext cx="66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urope’s highest mount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01880" y="31687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917720" y="3168720"/>
            <a:ext cx="53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unnel connects wh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European Countr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09080" y="316872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tain and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68040" y="3168720"/>
            <a:ext cx="57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irst, why was the Chunn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921320" y="3168720"/>
            <a:ext cx="58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tain was afraid that it w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 to a French invas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ix it Up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20240" y="3168720"/>
            <a:ext cx="60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as the League of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ix it Up!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46800" y="3124080"/>
            <a:ext cx="64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event a future war from ever happening a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WW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63000" y="3168720"/>
            <a:ext cx="56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ss killing of a specifi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up of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ix It Up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30680" y="3168720"/>
            <a:ext cx="662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vided Communist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 Communist Europe during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d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80640" y="3168720"/>
            <a:ext cx="24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rlin Wa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776240" y="1905120"/>
            <a:ext cx="53042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ease explain the Treaty of Versail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id it 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was it crea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country did it affect the MO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it help cause WWII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MacOS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47160" y="316872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ghet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31400" y="3168720"/>
            <a:ext cx="704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area that Jews were sent to du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WII, before being sent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ntration cam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22400" y="316872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the Chunnel stand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06920" y="3168720"/>
            <a:ext cx="54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glish Channel Tun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26:55Z</dcterms:created>
  <dc:creator>SCPS</dc:creator>
  <dc:description/>
  <dc:language>en-US</dc:language>
  <cp:lastModifiedBy>Robin Jadick</cp:lastModifiedBy>
  <dcterms:modified xsi:type="dcterms:W3CDTF">2011-05-02T12:13:58Z</dcterms:modified>
  <cp:revision>22</cp:revision>
  <dc:subject/>
  <dc:title>Jeopardy</dc:title>
</cp:coreProperties>
</file>